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BBFC-32C7-41EB-8181-37E99353E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12CF-7FFE-4072-89C7-8D76F423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D0F8-E3F3-4526-9EA8-7482543C3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C6C3-44B3-44E4-8445-28061C3BE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95BA-713E-499C-947C-E2A54238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32DC-55E5-4140-992F-3D9FCCF1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B583-23EF-4E40-AC84-9D002683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2188-19C9-4EE5-A56B-AE5C356E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B51A-E971-4756-9E4E-B2D80D10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C12F-6EDA-41B3-97D3-62996260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AE98-F5D9-497A-B2EB-C7B95DC6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AB93-6241-41F0-8746-970AEB65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EFBA-2AC3-47FB-8F64-1B82446F7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ro/imgres?imgurl=http://www.latrecut.ro/wp-content/uploads/2006/04/jack_si_vrejul_de_fasole_65.jpg&amp;imgrefurl=http://www.latrecut.ro/2006/04/jack-si-vrejul-de-fasole/&amp;usg=__o-pDRGXrcXiTeb0N48CyTmUf4Y4=&amp;h=500&amp;w=341&amp;sz=35&amp;hl=ro&amp;start=1&amp;zoom=1&amp;tbnid=8py9TXlw_kXJ5M:&amp;tbnh=130&amp;tbnw=89&amp;prev=/images%3Fq%3Djack%2Bsi%2Bvrejul%2Bde%2Bfasole%26hl%3Dro%26gbv%3D2%26tbs%3Disch:1&amp;itbs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ro/imgres?imgurl=http://p1.picof.net/o-buna-ceasca-de-cafea-1185-l.jpg&amp;imgrefurl=http://krystal.picof.net/gallery/o-buna-ceasca-de-cafea-1185/&amp;usg=__ypEMO1hk_ZzlwA7sdgj9vMAuxg4=&amp;h=425&amp;w=640&amp;sz=63&amp;hl=ro&amp;start=1&amp;zoom=1&amp;tbnid=bFrdn-NwUjcBgM:&amp;tbnh=91&amp;tbnw=137&amp;prev=/images%3Fq%3Dceasca%2Bcu%2Bcafea%26hl%3Dro%26gbv%3D2%26tbs%3Disch:1&amp;itbs=1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farm3.static.flickr.com/2448/3735918823_334c25d9b3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google.ro/imgres?imgurl=http://www.viamond.ro/images/apa-minerala-Borsec.gif&amp;imgrefurl=http://www.viamond.ro/advanced_search_result.php%3Fkeywords%3D%26x%3D32%26y%3D15%26categories_id%3D%26inc_subcat%3D1%26manufacturers_id%3D60%26pfrom%3D0%26pto%3D200000&amp;usg=__jYe0RZx1xJch3SSUZtlRXNKUkQw=&amp;h=340&amp;w=420&amp;sz=19&amp;hl=ro&amp;start=6&amp;zoom=1&amp;tbnid=lVTnLBsvJu1OuM:&amp;tbnh=101&amp;tbnw=125&amp;prev=/images%3Fq%3Dapa%2Bborsec%26hl%3Dro%26sa%3DG%26gbv%3D2%26tbs%3Disch:1&amp;itbs=1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www.google.ro/imgres?imgurl=http://www.energeia.ro/wp-content/uploads/2009/04/apa-chiuveta-romania.jpg&amp;imgrefurl=http://www.energeia.ro/poluare/la-ce-folosim-apa-de-la-chiuveta-1271/&amp;usg=__BNUlzIeNEhIX6ndxsgMfNLx9NdU=&amp;h=220&amp;w=300&amp;sz=23&amp;hl=ro&amp;start=1&amp;zoom=1&amp;tbnid=IVuurnelO4LC0M:&amp;tbnh=85&amp;tbnw=116&amp;prev=/images%3Fq%3Dapa%2Bchiuveta%26hl%3Dro%26sa%3DG%26gbv%3D2%26tbs%3Disch:1&amp;itbs=1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55320" y="574560"/>
            <a:ext cx="513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Jack si vrejul de faso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3573360"/>
            <a:ext cx="727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 noua versiune de Emma si  Alina, eleve in clasa  a-X-a B la Liceul de Muzica si Arte Plastice “ C. Brailoiu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700280"/>
            <a:ext cx="2592360" cy="180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859280" y="2781360"/>
            <a:ext cx="410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641520"/>
            <a:ext cx="856908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p de doua saptamani au urmarit in fiecare zi plantele din  experienta. Apoi s-au hotarat sa masoare tulpinile. Ce credeti ca au observ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2205000"/>
            <a:ext cx="8085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lpinile udate cu apa de izvor erau mai inalte cu 3 cm decat cele  udate cu apa de la robinet si cu 2 cm in plus fata de cele udate cu apa cumpar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484360" y="3860640"/>
            <a:ext cx="2808360" cy="2622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364000" y="3860640"/>
            <a:ext cx="3313440" cy="2590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4360" y="378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um suntem sigure ca toate povestile au un dram de adeva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1916280"/>
            <a:ext cx="374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rejul de fasole din povestea lui Jack a crescut atat de repede si de viguros pentru ca acesta il uda doar cu apa de izvo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apa de izvor a 15-a zi tulpina" descr=""/>
          <p:cNvPicPr/>
          <p:nvPr/>
        </p:nvPicPr>
        <p:blipFill>
          <a:blip r:embed="rId1"/>
          <a:stretch/>
        </p:blipFill>
        <p:spPr>
          <a:xfrm>
            <a:off x="4932360" y="2575080"/>
            <a:ext cx="3672000" cy="4093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71640" y="443700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easta a fost povestea noastr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95000" y="1025640"/>
            <a:ext cx="750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 ar fi daca voi ati incerca sa folositi cafe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beti in fiecare z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2205000"/>
            <a:ext cx="2016000" cy="1511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260280"/>
            <a:ext cx="820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 fost o data ca niciodata ….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ost o fetita Emma si fratii ei locuiau alaturi de bunici. Intr-o dimineata bunica a trezit-o pe fetita si i-a spus sa mearga la izvorul de pe deal  sa aduca un bidon de ap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2852640"/>
            <a:ext cx="784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Vedeţi imaginea la dimensiunea completă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3141720"/>
            <a:ext cx="3600360" cy="3311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620640"/>
            <a:ext cx="7848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ma a chemat-o si pe prietena ei Alina la izvor.  Pe drum i-a spus ca izvorul  este fermecat caci bunica i-a  soptit la ureche  ca fasolea fierbe mai repede in apa lu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92360" y="3429000"/>
            <a:ext cx="2519640" cy="2736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104200" y="2073240"/>
            <a:ext cx="422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upa 11 ani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8360" y="189000"/>
            <a:ext cx="8140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e doua colege, Emma si Alina, eleve in clasa a-X-a si-au amintit  intamplarea din copilarie si au hotarat sa devina mici cercetatoare realizand un experiment numit “Modificarea puterii de germinatie a semintelor de fasole sub influenta unor factori externi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5120" y="2730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08200" y="2514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484280"/>
            <a:ext cx="326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66760" y="4675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933720"/>
            <a:ext cx="504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348000" y="3645000"/>
            <a:ext cx="4249800" cy="2854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11280" y="549360"/>
            <a:ext cx="7200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mineata, fetele s-au apucat de trea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ma a pus vata in mai  multe castronele si apoi a umezit-o cu apa adusa de la izvorul “fermecat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68360" y="2852640"/>
            <a:ext cx="4104000" cy="3168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32688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 constatat dupa putin timp ca boabele se modif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a 2 ore boabele Emmei se umflas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4581360"/>
            <a:ext cx="633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na a mai asteptat o ora pana cand a observat ca si fasolea udata cu apa plata se umf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1944720" cy="1368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211640" y="2421000"/>
            <a:ext cx="2664000" cy="1655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55640" y="692280"/>
            <a:ext cx="62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na a zis ”Oare ce se intampla daca  punem seminte la incoltit si cu apa de la robinet sau cu apa plata imbuteliata?’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651640" y="3933720"/>
            <a:ext cx="3492360" cy="2735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4149720"/>
            <a:ext cx="2089080" cy="2376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87640" y="2852640"/>
            <a:ext cx="2592360" cy="2160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0920" y="1052640"/>
            <a:ext cx="806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826920" y="3933720"/>
          <a:ext cx="4753080" cy="29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3933720"/>
                    <a:ext cx="475308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179280" y="40464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na se obisnuise sa astepte mai mult decat Emma, toate fazele erau intarziate in experimentul sa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15573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 comparat momentele aparitiei radacinite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3500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 au obser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411280" y="2421000"/>
            <a:ext cx="1584360" cy="100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012000" y="2276640"/>
            <a:ext cx="2305080" cy="2160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16:44:32Z</dcterms:created>
  <dc:creator>Mone</dc:creator>
  <dc:description/>
  <dc:language>en-US</dc:language>
  <cp:lastModifiedBy>Mone</cp:lastModifiedBy>
  <dcterms:modified xsi:type="dcterms:W3CDTF">2009-02-04T22:29:52Z</dcterms:modified>
  <cp:revision>8</cp:revision>
  <dc:subject/>
  <dc:title>Slide 1</dc:title>
</cp:coreProperties>
</file>